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BE2-DA26-4E59-A593-65975A53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A24-CE02-4AE3-A370-4ED8FA88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AA4-C9E5-47A3-85C7-8DFE2DD0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9B7-7A02-4DD1-BC20-B9B69CFE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13C4-D9C1-44E3-BFD4-A609BB87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E0D8-1667-41D7-90C6-63FB9F1C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8363-24A7-4CF0-8B34-D4DCC145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17B3-11A4-4E09-AB5F-1ECB575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CF6D-956B-4CC8-B454-A1A7507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D1D4-C078-4B8B-A5C8-38C10D3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FC09-775F-4DAD-B0FD-9000132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163-EF0D-448D-8679-1BD844D4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7E89-0ACD-442E-BA9F-1DE68A3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2B60-5406-408A-838D-CA0620D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1C86-AE86-4B75-9597-266ADF1D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D902-C2F0-4821-9C5F-0BC74B81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BD58-53E7-4C8C-8677-AA62F407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6FD-19B6-4F3F-BDC8-E719E8F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39F-1BED-49BD-9658-DF704B5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558-DC60-4E78-B886-2AED8DC6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24A-F65D-4C8D-A936-363B345B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0D7-C700-4AFD-AD3E-F285F91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B58-AAA4-4BC4-8FF7-664A67A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A46-72E1-4264-B902-20347A7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000B-DDCA-4351-9080-1F2BC5B3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012760"/>
              <a:ext cx="712440" cy="474480"/>
              <a:chOff x="293760" y="2012760"/>
              <a:chExt cx="71244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012760"/>
                <a:ext cx="4384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01276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435040"/>
              <a:ext cx="739800" cy="474480"/>
              <a:chOff x="417600" y="2435040"/>
              <a:chExt cx="73980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435040"/>
                <a:ext cx="422640" cy="47448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435040"/>
                <a:ext cx="37008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DC89-B5F9-4306-B311-DE25E8F4ED03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5AE7-876A-432E-BD08-5A2E9D293691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olving problems by search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.Tammet mix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materials, incl Norvig A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pte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our cities &amp;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273420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2719800" y="4175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5624640" y="1736640"/>
            <a:ext cx="2833560" cy="25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atic int dist[][] =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{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}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}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}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3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}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5873400" y="43038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     1     2  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8380080" y="2209680"/>
            <a:ext cx="311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Route 0,2,3,1,0 cost 4+6+9+5 =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5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265788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273420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2133720" y="533412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V="1">
            <a:off x="5105520" y="274284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040" y="228600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Route 0,2,1,3,0 cost 4+2+9+3 = 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25819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719800" y="4175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24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5105520" y="274320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6"/>
          <p:cNvSpPr/>
          <p:nvPr/>
        </p:nvSpPr>
        <p:spPr>
          <a:xfrm flipH="1" flipV="1">
            <a:off x="2133360" y="274320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Route 0,3,2,1,0 cost 3+6+2+5 = 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25819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2719800" y="4175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23"/>
          <p:cNvSpPr/>
          <p:nvPr/>
        </p:nvSpPr>
        <p:spPr>
          <a:xfrm flipH="1">
            <a:off x="2057040" y="228600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24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25"/>
          <p:cNvSpPr/>
          <p:nvPr/>
        </p:nvSpPr>
        <p:spPr>
          <a:xfrm flipH="1">
            <a:off x="2133360" y="541008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2133720" y="266688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Amount of possible paths?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irst city: 3 choices for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Second city: 2 choices (2 visi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hird city: 1 choice (3 visi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Altogether: 3*2*1= 6 pa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or 10 c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9*8*7*6*5*4*3*2*1 = 362 8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Generally (n-1)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or 100 cities: 99*98*...*3*2*1 = 9.3*(10 to power of 15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TSP search tree on four cit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3733920" y="1143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373392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1752480" y="22860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571500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11"/>
          <p:cNvSpPr/>
          <p:nvPr/>
        </p:nvSpPr>
        <p:spPr>
          <a:xfrm>
            <a:off x="12952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12"/>
          <p:cNvSpPr/>
          <p:nvPr/>
        </p:nvSpPr>
        <p:spPr>
          <a:xfrm>
            <a:off x="2286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3"/>
          <p:cNvSpPr/>
          <p:nvPr/>
        </p:nvSpPr>
        <p:spPr>
          <a:xfrm>
            <a:off x="3429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14"/>
          <p:cNvSpPr/>
          <p:nvPr/>
        </p:nvSpPr>
        <p:spPr>
          <a:xfrm>
            <a:off x="42670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5"/>
          <p:cNvSpPr/>
          <p:nvPr/>
        </p:nvSpPr>
        <p:spPr>
          <a:xfrm>
            <a:off x="54864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63244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1219320" y="4572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18"/>
          <p:cNvSpPr/>
          <p:nvPr/>
        </p:nvSpPr>
        <p:spPr>
          <a:xfrm>
            <a:off x="22860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19"/>
          <p:cNvSpPr/>
          <p:nvPr/>
        </p:nvSpPr>
        <p:spPr>
          <a:xfrm>
            <a:off x="34290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20"/>
          <p:cNvSpPr/>
          <p:nvPr/>
        </p:nvSpPr>
        <p:spPr>
          <a:xfrm>
            <a:off x="43434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21"/>
          <p:cNvSpPr/>
          <p:nvPr/>
        </p:nvSpPr>
        <p:spPr>
          <a:xfrm>
            <a:off x="54864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64008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23"/>
          <p:cNvSpPr/>
          <p:nvPr/>
        </p:nvSpPr>
        <p:spPr>
          <a:xfrm flipH="1">
            <a:off x="2133720" y="1371600"/>
            <a:ext cx="1676160" cy="9144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3886200" y="1447920"/>
            <a:ext cx="0" cy="76176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25"/>
          <p:cNvSpPr/>
          <p:nvPr/>
        </p:nvSpPr>
        <p:spPr>
          <a:xfrm>
            <a:off x="4114800" y="1371600"/>
            <a:ext cx="1523880" cy="9144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26"/>
          <p:cNvSpPr/>
          <p:nvPr/>
        </p:nvSpPr>
        <p:spPr>
          <a:xfrm flipH="1">
            <a:off x="1447920" y="2590920"/>
            <a:ext cx="380880" cy="8380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2133720" y="2590920"/>
            <a:ext cx="228600" cy="8380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28"/>
          <p:cNvSpPr/>
          <p:nvPr/>
        </p:nvSpPr>
        <p:spPr>
          <a:xfrm flipH="1">
            <a:off x="3657240" y="2590920"/>
            <a:ext cx="228600" cy="8380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4038480" y="2666880"/>
            <a:ext cx="304920" cy="7621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30"/>
          <p:cNvSpPr/>
          <p:nvPr/>
        </p:nvSpPr>
        <p:spPr>
          <a:xfrm flipH="1">
            <a:off x="5638320" y="2666880"/>
            <a:ext cx="22860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31"/>
          <p:cNvSpPr/>
          <p:nvPr/>
        </p:nvSpPr>
        <p:spPr>
          <a:xfrm>
            <a:off x="6019920" y="2666880"/>
            <a:ext cx="38088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32"/>
          <p:cNvSpPr/>
          <p:nvPr/>
        </p:nvSpPr>
        <p:spPr>
          <a:xfrm>
            <a:off x="1447920" y="388620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33"/>
          <p:cNvSpPr/>
          <p:nvPr/>
        </p:nvSpPr>
        <p:spPr>
          <a:xfrm>
            <a:off x="2438280" y="3886200"/>
            <a:ext cx="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34"/>
          <p:cNvSpPr/>
          <p:nvPr/>
        </p:nvSpPr>
        <p:spPr>
          <a:xfrm>
            <a:off x="3657600" y="3886200"/>
            <a:ext cx="0" cy="7621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35"/>
          <p:cNvSpPr/>
          <p:nvPr/>
        </p:nvSpPr>
        <p:spPr>
          <a:xfrm>
            <a:off x="4495680" y="3886200"/>
            <a:ext cx="0" cy="6094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36"/>
          <p:cNvSpPr/>
          <p:nvPr/>
        </p:nvSpPr>
        <p:spPr>
          <a:xfrm>
            <a:off x="5715000" y="3886200"/>
            <a:ext cx="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37"/>
          <p:cNvSpPr/>
          <p:nvPr/>
        </p:nvSpPr>
        <p:spPr>
          <a:xfrm>
            <a:off x="6553080" y="3886200"/>
            <a:ext cx="0" cy="6094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2415240" y="15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3939120" y="15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40"/>
          <p:cNvSpPr/>
          <p:nvPr/>
        </p:nvSpPr>
        <p:spPr>
          <a:xfrm>
            <a:off x="5234400" y="15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41"/>
          <p:cNvSpPr/>
          <p:nvPr/>
        </p:nvSpPr>
        <p:spPr>
          <a:xfrm>
            <a:off x="127224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226260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4200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24404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531072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46"/>
          <p:cNvSpPr/>
          <p:nvPr/>
        </p:nvSpPr>
        <p:spPr>
          <a:xfrm>
            <a:off x="6453720" y="2651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90540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189612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311508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1058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509652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601092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53"/>
          <p:cNvSpPr/>
          <p:nvPr/>
        </p:nvSpPr>
        <p:spPr>
          <a:xfrm>
            <a:off x="1219320" y="53341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54"/>
          <p:cNvSpPr/>
          <p:nvPr/>
        </p:nvSpPr>
        <p:spPr>
          <a:xfrm>
            <a:off x="2209680" y="541008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55"/>
          <p:cNvSpPr/>
          <p:nvPr/>
        </p:nvSpPr>
        <p:spPr>
          <a:xfrm>
            <a:off x="33526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56"/>
          <p:cNvSpPr/>
          <p:nvPr/>
        </p:nvSpPr>
        <p:spPr>
          <a:xfrm>
            <a:off x="4343400" y="54864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57"/>
          <p:cNvSpPr/>
          <p:nvPr/>
        </p:nvSpPr>
        <p:spPr>
          <a:xfrm>
            <a:off x="54100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58"/>
          <p:cNvSpPr/>
          <p:nvPr/>
        </p:nvSpPr>
        <p:spPr>
          <a:xfrm>
            <a:off x="6324480" y="55627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59"/>
          <p:cNvSpPr/>
          <p:nvPr/>
        </p:nvSpPr>
        <p:spPr>
          <a:xfrm>
            <a:off x="2438280" y="4876920"/>
            <a:ext cx="0" cy="53316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60"/>
          <p:cNvSpPr/>
          <p:nvPr/>
        </p:nvSpPr>
        <p:spPr>
          <a:xfrm>
            <a:off x="1371600" y="4876920"/>
            <a:ext cx="0" cy="53316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61"/>
          <p:cNvSpPr/>
          <p:nvPr/>
        </p:nvSpPr>
        <p:spPr>
          <a:xfrm>
            <a:off x="3581280" y="502920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4495680" y="502920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63"/>
          <p:cNvSpPr/>
          <p:nvPr/>
        </p:nvSpPr>
        <p:spPr>
          <a:xfrm>
            <a:off x="5486400" y="495288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4"/>
          <p:cNvSpPr/>
          <p:nvPr/>
        </p:nvSpPr>
        <p:spPr>
          <a:xfrm>
            <a:off x="6400800" y="495288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5"/>
          <p:cNvSpPr/>
          <p:nvPr/>
        </p:nvSpPr>
        <p:spPr>
          <a:xfrm>
            <a:off x="967320" y="387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2034000" y="402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329640" y="409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68"/>
          <p:cNvSpPr/>
          <p:nvPr/>
        </p:nvSpPr>
        <p:spPr>
          <a:xfrm>
            <a:off x="4091400" y="402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9"/>
          <p:cNvSpPr/>
          <p:nvPr/>
        </p:nvSpPr>
        <p:spPr>
          <a:xfrm>
            <a:off x="5387040" y="402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70"/>
          <p:cNvSpPr/>
          <p:nvPr/>
        </p:nvSpPr>
        <p:spPr>
          <a:xfrm>
            <a:off x="6148800" y="409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71"/>
          <p:cNvSpPr/>
          <p:nvPr/>
        </p:nvSpPr>
        <p:spPr>
          <a:xfrm>
            <a:off x="6192360" y="685800"/>
            <a:ext cx="265572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This is an abstr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tree: it is not buil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into memory, we ju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have to pass the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and find the cheap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556-1BFF-40ED-B092-F211BD66B2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line, simulated exploration of state space by generating successors of already-explored states (a.k.a.~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a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rcRect l="14844" t="37501" r="3127" b="28124"/>
          <a:stretch/>
        </p:blipFill>
        <p:spPr>
          <a:xfrm>
            <a:off x="609480" y="342900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A160-F5AA-4E94-8D95-63B646C51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22" name="Picture 4" descr="search-map1c"/>
          <p:cNvPicPr/>
          <p:nvPr/>
        </p:nvPicPr>
        <p:blipFill>
          <a:blip r:embed="rId1"/>
          <a:stretch/>
        </p:blipFill>
        <p:spPr>
          <a:xfrm>
            <a:off x="1600200" y="1523880"/>
            <a:ext cx="57056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2A74-B5D5-47D7-87E7-A3D4D4CCD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Picture 4" descr="search-map2c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0436-F233-4F84-8EB3-059AD566B4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Picture 4" descr="search-map3c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2772-50DB-474B-BDC2-AB237D2B4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8puzzle"/>
          <p:cNvPicPr/>
          <p:nvPr/>
        </p:nvPicPr>
        <p:blipFill>
          <a:blip r:embed="rId1"/>
          <a:stretch/>
        </p:blipFill>
        <p:spPr>
          <a:xfrm>
            <a:off x="2362320" y="16765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57A-197E-4A2F-9711-F4F1CD76F4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strategy is defined by pick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der of node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es are evaluated along the following dim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solution if one exis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tim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umber of node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spac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number of nodes in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optim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least-cost sol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and space complexity are measured in term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ximum branching factor of the search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 of the least-cost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depth of the state space (may b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CFB9-C52D-4266-B856-00BC8B908D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nformed 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nform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strategies use only the information available in the problem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orm-co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limited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5E16-C9AF-44D2-8D44-B63F985419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4" descr="bfs-progress1c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4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Footer Placeholder 5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E274-1B9F-41A8-840E-00E18A4B67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5" descr="bfs-progress2c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9FD-2846-4A5D-AD7F-5380C67194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5" descr="bfs-progress3c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17B1-D377-46EC-84B9-015BD0AE3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5" descr="bfs-progress4c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6641-E797-4953-99A5-21E94AC202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bread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(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in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+b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… 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keeps every node in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es (if cost = 1 per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igger problem (more than 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FD5-69BD-4FAC-8A63-DC2B7AD1E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form-co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least-cost unexpand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queue ordered by path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breadth-first if step costs all eq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, if step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st of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 – nodes expanded in increasing or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75EC-07FE-4810-8F2F-00CD9E4AE0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4" descr="dfs-progress01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BF76-128E-4728-9A06-340CF6415F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dfs-progress02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F5C-5557-4900-900C-62B9812C89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of t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blank left, right, up, dow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goal state (gi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er 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ote: optimal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uzzle family is NP-har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6" descr="8puzzle"/>
          <p:cNvPicPr/>
          <p:nvPr/>
        </p:nvPicPr>
        <p:blipFill>
          <a:blip r:embed="rId1"/>
          <a:stretch/>
        </p:blipFill>
        <p:spPr>
          <a:xfrm>
            <a:off x="2362320" y="137160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0830-C9B1-4118-9FDD-397CA69439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5" descr="dfs-progress03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7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61E-B4CE-4B31-A488-8E012FA570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5" descr="dfs-progress04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131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2A0-D96A-4B85-BB91-6F6384BE5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5" descr="dfs-progress05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0BE-2BF7-412E-B92A-B3C600FFD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6" descr="dfs-progress06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C85-2AC7-412F-A80D-23325A37E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dfs-progress07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65D-C436-4FD7-AF3E-27D8B031EE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dfs-progress08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AA2A-8A11-479F-8635-4775AC3F51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2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dfs-progress09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D47-EAB5-4FFF-8DA9-42843F12C1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dfs-progress10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575-4586-4AF2-8DA4-5C02D3C39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dfs-progress11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5503-5C6B-48F3-B280-6EAA88329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3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dfs-progress12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B144-6CA5-45F6-A44F-B40B8108C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botic assembl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valued coordinates of robot joint angles parts of the object to be assem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ous motions of robot j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lete 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ime to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stanford-arm+blocks"/>
          <p:cNvPicPr/>
          <p:nvPr/>
        </p:nvPicPr>
        <p:blipFill>
          <a:blip r:embed="rId1"/>
          <a:stretch/>
        </p:blipFill>
        <p:spPr>
          <a:xfrm>
            <a:off x="1676520" y="1295280"/>
            <a:ext cx="5800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33C-8F37-49DF-A942-E3C6A1F6D6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dep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: fails in infinite-depth spaces, spaces with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o avoid repeated states along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n finite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erribl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solutions are dense, may be much faster than breadth-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m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linea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5CAC-55B5-4D49-8C4C-A88DFE9C44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limit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depth-first search with depth lim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node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no suc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Recursive 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rcRect l="58203" t="36462" r="7422" b="20835"/>
          <a:stretch/>
        </p:blipFill>
        <p:spPr>
          <a:xfrm>
            <a:off x="914400" y="3124080"/>
            <a:ext cx="6705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A24-324A-4CED-BFBB-4F0B318E11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rcRect l="14844" t="18753" r="3127" b="51046"/>
          <a:stretch/>
        </p:blipFill>
        <p:spPr>
          <a:xfrm>
            <a:off x="762120" y="1600200"/>
            <a:ext cx="8001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5B98-6D64-41CE-94DF-129F9AAF4A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75" name="Picture 4" descr="ids-progress1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B416-26C9-46EC-A4BB-415D37F681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80" name="Picture 4" descr="ids-progress2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984-E0A8-40F9-A214-954CCAB1B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2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85" name="Picture 4" descr="ids-progress3c"/>
          <p:cNvPicPr/>
          <p:nvPr/>
        </p:nvPicPr>
        <p:blipFill>
          <a:blip r:embed="rId1"/>
          <a:stretch/>
        </p:blipFill>
        <p:spPr>
          <a:xfrm>
            <a:off x="762120" y="1652760"/>
            <a:ext cx="761976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0B22-2486-4D32-BD42-E22B96B89B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3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90" name="Picture 4" descr="ids-progress4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3D67-4ACE-495A-A153-0C0C05E198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 depth-limited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L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n iterative deepening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d+1)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d 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d-1)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… +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=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=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 + 10 + 100 + 1,000 + 10,000 + 100,000 = 111,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 + 50 + 400 + 3,000 + 20,000 + 100,000 = 123,4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 = (123,456 - 111,111)/111,111 = 1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AFC9-39C7-4C56-A54D-5FC5C4F19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d+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d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(d-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= 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, if step cost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6757-B471-49A6-9701-A3549DC25A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 of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rcRect l="14065" t="22917" r="17970" b="51046"/>
          <a:stretch/>
        </p:blipFill>
        <p:spPr>
          <a:xfrm>
            <a:off x="1143000" y="1676520"/>
            <a:ext cx="662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Travelling salesman proble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raveller starts from Tallinn, w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to visit some cities: New York, London, Tokyo, …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d come back to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allin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city visited exactly once (except first and last city is both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Tallin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st of travel between each pair of cities is gi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im: To minimize the cost. If possible, find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ur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with the leas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cost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A08-C392-46D4-B6B9-D705AFF670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peated stat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detect repeated states can turn a linear problem into an exponential 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4" descr="ribbon-space"/>
          <p:cNvPicPr/>
          <p:nvPr/>
        </p:nvPicPr>
        <p:blipFill>
          <a:blip r:embed="rId1"/>
          <a:stretch/>
        </p:blipFill>
        <p:spPr>
          <a:xfrm>
            <a:off x="304920" y="2895480"/>
            <a:ext cx="8229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E8D1-9A17-4DD0-A3AE-9C8CE41972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rcRect l="14065" t="16666" r="3127" b="35419"/>
          <a:stretch/>
        </p:blipFill>
        <p:spPr>
          <a:xfrm>
            <a:off x="609480" y="1676520"/>
            <a:ext cx="8077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9B9-7E44-41E2-9143-595211CD76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formulation usually requires abstracting away real-world details to define a state space that can feasibly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y of uninformed search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deepening search uses only linear space and not much more time than other uninformed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Inform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9DED-C49F-4FE2-9C72-9B6A5C400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est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use 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valuati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of "desirability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and most desirable unexpanded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the nodes in fringe in decreasing order of desi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edy best-first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omania with step costs in k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30" name="Picture 4" descr="romania2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best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 = h(n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is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estimate of cost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SL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traight-line distance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Bucha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best-first search expands the node t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be closest to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34" name="Picture 4" descr="greedy-progress01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greedy-progress02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greedy-progress03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mall and simple cas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1143720" y="1676520"/>
            <a:ext cx="6439680" cy="4442760"/>
            <a:chOff x="1143720" y="1676520"/>
            <a:chExt cx="6439680" cy="4442760"/>
          </a:xfrm>
        </p:grpSpPr>
        <p:sp>
          <p:nvSpPr>
            <p:cNvPr id="119" name="Freeform 8"/>
            <p:cNvSpPr/>
            <p:nvPr/>
          </p:nvSpPr>
          <p:spPr>
            <a:xfrm>
              <a:off x="1877760" y="1676520"/>
              <a:ext cx="3484800" cy="4114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9"/>
            <p:cNvSpPr/>
            <p:nvPr/>
          </p:nvSpPr>
          <p:spPr>
            <a:xfrm>
              <a:off x="2743200" y="2809800"/>
              <a:ext cx="1887480" cy="430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4630680" y="2695680"/>
              <a:ext cx="2003400" cy="24667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1"/>
            <p:cNvSpPr/>
            <p:nvPr/>
          </p:nvSpPr>
          <p:spPr>
            <a:xfrm>
              <a:off x="2725560" y="4125960"/>
              <a:ext cx="2206800" cy="691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Oval 12"/>
            <p:cNvSpPr/>
            <p:nvPr/>
          </p:nvSpPr>
          <p:spPr>
            <a:xfrm>
              <a:off x="2666880" y="40402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1828800" y="47260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3504960" y="5716440"/>
              <a:ext cx="152640" cy="15264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5029200" y="47260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6476760" y="5030640"/>
              <a:ext cx="152640" cy="15264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790960" y="2668680"/>
              <a:ext cx="15264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4495680" y="19828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2590560" y="2135160"/>
              <a:ext cx="15264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2666880" y="31258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Oval 21"/>
            <p:cNvSpPr/>
            <p:nvPr/>
          </p:nvSpPr>
          <p:spPr>
            <a:xfrm>
              <a:off x="4572000" y="28972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3643560" y="565956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Muddy Ga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3"/>
            <p:cNvSpPr/>
            <p:nvPr/>
          </p:nvSpPr>
          <p:spPr>
            <a:xfrm>
              <a:off x="4861800" y="48211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Cas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6386040" y="51260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Dougla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25"/>
            <p:cNvSpPr/>
            <p:nvPr/>
          </p:nvSpPr>
          <p:spPr>
            <a:xfrm>
              <a:off x="5941440" y="2382840"/>
              <a:ext cx="11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Gillettt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4372200" y="251604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Buffal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4708800" y="16970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Sherida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1371960" y="192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Greybul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1431720" y="29163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Worlan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2804760" y="36021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Shoshon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31"/>
            <p:cNvSpPr/>
            <p:nvPr/>
          </p:nvSpPr>
          <p:spPr>
            <a:xfrm>
              <a:off x="1143720" y="480204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Land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Text Box 32"/>
          <p:cNvSpPr/>
          <p:nvPr/>
        </p:nvSpPr>
        <p:spPr>
          <a:xfrm>
            <a:off x="4570200" y="838080"/>
            <a:ext cx="4385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art of Wyoming’s (a USA State)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Roa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greedy-progress04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best-first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erties of 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 – can get stuck in loops, e.g.,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but a good heuristic can give dramatic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 keeps all nodes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avoid expanding paths that are already 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cost so far to reac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estimated cost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estimated total cost of path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46" name="Picture 4" descr="astar-progress01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astar-progress02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0" name="Picture 5" descr="astar-progress03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2" name="Picture 4" descr="astar-progress04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4" name="Picture 4" descr="astar-progress05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6" name="Picture 4" descr="astar-progress06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any optimization problems,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irrelevant; the goal state itself is the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space = set of "complete" configu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configuration satisfying constraints, e.g., n-que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uch cases, we can us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 single "current" state, try to improv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: a bit bigger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6094080" y="1143000"/>
            <a:ext cx="244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 cities of Qa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33" descr="C:\Documents and Settings\Tanel Tammet\My Documents\Lectures\Progpohikursus\qapoints.gif"/>
          <p:cNvPicPr/>
          <p:nvPr/>
        </p:nvPicPr>
        <p:blipFill>
          <a:blip r:embed="rId1"/>
          <a:stretch/>
        </p:blipFill>
        <p:spPr>
          <a:xfrm>
            <a:off x="914400" y="762120"/>
            <a:ext cx="33973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</a:t>
            </a:r>
            <a:r>
              <a:rPr b="0" i="1" lang="en-US" sz="44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-quee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eens on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×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ard with no two queens on the same row, column, or diag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4" descr="4queens-sequence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ill-climb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Like climbing Everest in thick fog with amnesia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rcRect l="17970" t="27086" r="13282" b="36462"/>
          <a:stretch/>
        </p:blipFill>
        <p:spPr>
          <a:xfrm>
            <a:off x="838080" y="2743200"/>
            <a:ext cx="7620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ill-climb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depending on initial state, can get stuck in local max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4" descr="hill-climbing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Hill-climbing search: 8-queens problem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number of pairs of queens that are attacking each other, either directly or indirectl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 = 1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above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0" name="Picture 5" descr="8queens-successors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Hill-climbing search: 8-queens problem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72" name="Picture 4" descr="8queens-local-minimum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6"/>
          <p:cNvSpPr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ocal minimum wi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imulated anneal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: escape local maxima by allowing some "bad" moves bu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radually decr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i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371600" y="3048120"/>
            <a:ext cx="62485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of simulated anneal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can prove: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creases slowly enough, then simulated annealing search will find a global optimum with probability approaching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used in VLSI layout, airline scheduling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: a bit bigger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094800" y="1143000"/>
            <a:ext cx="246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atar optimal T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9" descr="C:\Documents and Settings\Tanel Tammet\My Documents\Lectures\Progpohikursus\qatour.gif"/>
          <p:cNvPicPr/>
          <p:nvPr/>
        </p:nvPicPr>
        <p:blipFill>
          <a:blip r:embed="rId1"/>
          <a:stretch/>
        </p:blipFill>
        <p:spPr>
          <a:xfrm>
            <a:off x="1028880" y="838080"/>
            <a:ext cx="475272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: Finlan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639400" y="1143000"/>
            <a:ext cx="36280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106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y good, but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9" descr="C:\Documents and Settings\Tanel Tammet\My Documents\Lectures\Progpohikursus\fitour.gif"/>
          <p:cNvPicPr/>
          <p:nvPr/>
        </p:nvPicPr>
        <p:blipFill>
          <a:blip r:embed="rId1"/>
          <a:stretch/>
        </p:blipFill>
        <p:spPr>
          <a:xfrm>
            <a:off x="609480" y="685800"/>
            <a:ext cx="47977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58:58Z</dcterms:created>
  <dc:creator>Min-Yen Kan</dc:creator>
  <dc:description/>
  <dc:language>en-US</dc:language>
  <cp:lastModifiedBy>tanel</cp:lastModifiedBy>
  <dcterms:modified xsi:type="dcterms:W3CDTF">2009-02-13T00:05:50Z</dcterms:modified>
  <cp:revision>15</cp:revision>
  <dc:subject/>
  <dc:title>Solving problems by searching</dc:title>
</cp:coreProperties>
</file>